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21F-8A60-4AEA-A928-9106F242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03C-6BFF-4864-9F1A-6E10B7C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4AE-B78A-4D75-A2A6-01C40DA0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167-0C68-42AD-9130-4B96D949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FC8-4219-4D9F-84C0-83A3DBA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07D-6F82-42EE-99A4-AD03E95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2F3-4474-4154-92D0-E8400FAB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820-3F35-47DE-8519-D82B586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FF6-0540-40C7-8D56-37AF0F6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B16-53F7-4958-A96D-8855813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A72-DC0E-4BC4-AE4A-BDFC78D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F29-29C0-4312-AE6E-17AB48E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5E49-9B0F-4296-B699-DEF56905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Arial"/>
              </a:rPr>
              <a:t>Figurative Langu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Figuring it Ou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img.jogtheweb.com/users_avatars/avatarTNn6VozfZizn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Idi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ying that isn’t meant to be taken liter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“mean” what it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stick in the mu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ace up my sle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4.bp.blogspot.com/_ghI2knp4txs/TG34tPH82oI/AAAAAAAAMAA/g7wfnxB7Llw/s1600/stick_in_the_mud.png"/>
          <p:cNvPicPr/>
          <p:nvPr/>
        </p:nvPicPr>
        <p:blipFill>
          <a:blip r:embed="rId1"/>
          <a:stretch/>
        </p:blipFill>
        <p:spPr>
          <a:xfrm>
            <a:off x="6400800" y="22860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3c6"/>
                </a:solidFill>
                <a:uFillTx/>
                <a:latin typeface="Arial"/>
              </a:rPr>
              <a:t>P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280" y="99072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“word play” in which words have a doubl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dered why the baseball was getting bigger and then it hi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reading a book about anti-gravity.  It’s impossible to put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going to look for my missing watch, but I didn’t have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treebeard31.files.wordpress.com/2009/06/pun2.jpg"/>
          <p:cNvPicPr/>
          <p:nvPr/>
        </p:nvPicPr>
        <p:blipFill>
          <a:blip r:embed="rId1"/>
          <a:stretch/>
        </p:blipFill>
        <p:spPr>
          <a:xfrm>
            <a:off x="6248520" y="2209680"/>
            <a:ext cx="2684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Prover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ative saying in which a bit of “wisdom”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e a day keeps the doctor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ly bird catches the w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alleba.com/blog/wp-content/photos/bird_worm.jpg"/>
          <p:cNvPicPr/>
          <p:nvPr/>
        </p:nvPicPr>
        <p:blipFill>
          <a:blip r:embed="rId1"/>
          <a:stretch/>
        </p:blipFill>
        <p:spPr>
          <a:xfrm>
            <a:off x="2895480" y="3962520"/>
            <a:ext cx="3353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Arial"/>
              </a:rPr>
              <a:t>Oxymo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words are put together that contradict each other.  “Opposi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bo 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U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r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seefooddiet.com/JUMBO-SHRIMP.jpg"/>
          <p:cNvPicPr/>
          <p:nvPr/>
        </p:nvPicPr>
        <p:blipFill>
          <a:blip r:embed="rId1"/>
          <a:stretch/>
        </p:blipFill>
        <p:spPr>
          <a:xfrm>
            <a:off x="4267080" y="274320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a separate sheet of pap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t an example of figurative language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write whether it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b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un, proverb, idiom, onomatopoeia, oxymoron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rew a line as straight as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imageafrica.net/Pages/imageafrica/images/ChokweBowArrow.jpg"/>
          <p:cNvPicPr/>
          <p:nvPr/>
        </p:nvPicPr>
        <p:blipFill>
          <a:blip r:embed="rId1"/>
          <a:stretch/>
        </p:blipFill>
        <p:spPr>
          <a:xfrm>
            <a:off x="2971800" y="320040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 kingdom and all who learn are kings and que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s9.thisnext.com/media/largest_dimension/146F19F4.jpg"/>
          <p:cNvPicPr/>
          <p:nvPr/>
        </p:nvPicPr>
        <p:blipFill>
          <a:blip r:embed="rId1"/>
          <a:stretch/>
        </p:blipFill>
        <p:spPr>
          <a:xfrm>
            <a:off x="3048120" y="32767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ee you for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1000" y="-69372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81000" y="-69372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81000" y="-87624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1000" y="-87624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http://www.theranch.org/uploads/pics/r21M4100147.jpg"/>
          <p:cNvPicPr/>
          <p:nvPr/>
        </p:nvPicPr>
        <p:blipFill>
          <a:blip r:embed="rId1"/>
          <a:stretch/>
        </p:blipFill>
        <p:spPr>
          <a:xfrm>
            <a:off x="2895480" y="32767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was beating down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www.clipartpal.com/_thumbs/pd/weather/angry_sun.png"/>
          <p:cNvPicPr/>
          <p:nvPr/>
        </p:nvPicPr>
        <p:blipFill>
          <a:blip r:embed="rId1"/>
          <a:stretch/>
        </p:blipFill>
        <p:spPr>
          <a:xfrm>
            <a:off x="3505320" y="320040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lag wags like a fishhook there in the 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jasonlove.com/cartoons/00704-funny-cartoons-fish-hook.gif"/>
          <p:cNvPicPr/>
          <p:nvPr/>
        </p:nvPicPr>
        <p:blipFill>
          <a:blip r:embed="rId1"/>
          <a:stretch/>
        </p:blipFill>
        <p:spPr>
          <a:xfrm>
            <a:off x="3048120" y="2895480"/>
            <a:ext cx="285732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igurativ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Literal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iter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s function exactly 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ught the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gurative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out what it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got your back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 d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g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rlv.zcache.com/ive_got_your_back_mouspad_mousepad-p144115660927151305trak_400.jpg"/>
          <p:cNvPicPr/>
          <p:nvPr/>
        </p:nvPicPr>
        <p:blipFill>
          <a:blip r:embed="rId1"/>
          <a:stretch/>
        </p:blipFill>
        <p:spPr>
          <a:xfrm>
            <a:off x="5638680" y="42670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d rather take bath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man-eating sha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restle a l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e in the da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spinach and liver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 ten porcupin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tackle the homewo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assig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http://www.mainstreamtopics.com/wp-content/uploads/2009/01/funny-cat-shark.jpg"/>
          <p:cNvPicPr/>
          <p:nvPr/>
        </p:nvPicPr>
        <p:blipFill>
          <a:blip r:embed="rId1"/>
          <a:stretch/>
        </p:blipFill>
        <p:spPr>
          <a:xfrm>
            <a:off x="5638680" y="2362320"/>
            <a:ext cx="313704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ous and sav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lo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journey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 Wi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ear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ood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rtv6blogs.com/rtv6_stormteam6/files/2009/09/wind.jpg"/>
          <p:cNvPicPr/>
          <p:nvPr/>
        </p:nvPicPr>
        <p:blipFill>
          <a:blip r:embed="rId1"/>
          <a:stretch/>
        </p:blipFill>
        <p:spPr>
          <a:xfrm>
            <a:off x="4724280" y="1828800"/>
            <a:ext cx="38484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ner is on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2.bp.blogspot.com/_ilO1uu-SYVs/SueqWYQvf9I/AAAAAAAACW0/GzU6J1ZWzZ4/s400/ist2_6373793-cartoon-chef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198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have one of your c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1.bp.blogspot.com/_8M4A38LyBBs/SWEgiMVFeHI/AAAAAAAAFsA/nddKnowFD8w/s400/potato-chips_1126557i.jpg"/>
          <p:cNvPicPr/>
          <p:nvPr/>
        </p:nvPicPr>
        <p:blipFill>
          <a:blip r:embed="rId1"/>
          <a:stretch/>
        </p:blipFill>
        <p:spPr>
          <a:xfrm>
            <a:off x="2743200" y="320040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it the hand that feed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farm1.static.flickr.com/41/100755121_9733e56abe.jpg"/>
          <p:cNvPicPr/>
          <p:nvPr/>
        </p:nvPicPr>
        <p:blipFill>
          <a:blip r:embed="rId1"/>
          <a:stretch/>
        </p:blipFill>
        <p:spPr>
          <a:xfrm>
            <a:off x="2209680" y="228600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uds smiled down a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binaryoffice.com/wp-content/uploads/cloud-document-capture.jpg"/>
          <p:cNvPicPr/>
          <p:nvPr/>
        </p:nvPicPr>
        <p:blipFill>
          <a:blip r:embed="rId1"/>
          <a:stretch/>
        </p:blipFill>
        <p:spPr>
          <a:xfrm>
            <a:off x="2209680" y="2590920"/>
            <a:ext cx="493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jg.msdpt.k12.in.us/staff/Huckaby/splat.gif"/>
          <p:cNvPicPr/>
          <p:nvPr/>
        </p:nvPicPr>
        <p:blipFill>
          <a:blip r:embed="rId1"/>
          <a:stretch/>
        </p:blipFill>
        <p:spPr>
          <a:xfrm>
            <a:off x="2209680" y="2286000"/>
            <a:ext cx="4591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as sweet as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://www.hasslefreeclipart.com/clipart_food/snacks_dessert/candy_hard.gif"/>
          <p:cNvPicPr/>
          <p:nvPr/>
        </p:nvPicPr>
        <p:blipFill>
          <a:blip r:embed="rId1"/>
          <a:stretch/>
        </p:blipFill>
        <p:spPr>
          <a:xfrm>
            <a:off x="2438280" y="2438280"/>
            <a:ext cx="46767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sleep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ttp://img.uphaa.com/uploads/612/sleep02.jpg"/>
          <p:cNvPicPr/>
          <p:nvPr/>
        </p:nvPicPr>
        <p:blipFill>
          <a:blip r:embed="rId1"/>
          <a:stretch/>
        </p:blipFill>
        <p:spPr>
          <a:xfrm>
            <a:off x="2362320" y="2438280"/>
            <a:ext cx="4286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rove his expensive car into a tree and found out how the Mercedes b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http://www.autospectator.com/cars/files/images/2009-Mercedes-Benz-SLK-Roadster-06.jpg"/>
          <p:cNvPicPr/>
          <p:nvPr/>
        </p:nvPicPr>
        <p:blipFill>
          <a:blip r:embed="rId1"/>
          <a:stretch/>
        </p:blipFill>
        <p:spPr>
          <a:xfrm>
            <a:off x="2286000" y="281952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things using “like” or “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l twis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ibb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we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4.bp.blogspot.com/_lMs9w-EpPiM/TH14-6elb6I/AAAAAAAAC-U/jVb7ZJqPG8g/s1600/candy1.jpg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to have a fear of hurdles, but I got ove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http://curtharlow.com/wordpress/wp-content/uploads/2009/04/fail-hurdles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67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at field was a sea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http://www.wallpaper4me.com/images/wallpapers/tmp/1302609495_nature_0013_501986.jpeg"/>
          <p:cNvPicPr/>
          <p:nvPr/>
        </p:nvPicPr>
        <p:blipFill>
          <a:blip r:embed="rId1"/>
          <a:stretch/>
        </p:blipFill>
        <p:spPr>
          <a:xfrm>
            <a:off x="2514600" y="2743200"/>
            <a:ext cx="39164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called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://www.clker.com/cliparts/8/5/b/3/1206558153727794007IncessantBlabber_Open_road.svg.hi.png"/>
          <p:cNvPicPr/>
          <p:nvPr/>
        </p:nvPicPr>
        <p:blipFill>
          <a:blip r:embed="rId1"/>
          <a:stretch/>
        </p:blipFill>
        <p:spPr>
          <a:xfrm>
            <a:off x="1600200" y="2590920"/>
            <a:ext cx="5715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http://www.babeled.com/wp-content/uploads/2009/01/onomatopoeia-300x286.jpg"/>
          <p:cNvPicPr/>
          <p:nvPr/>
        </p:nvPicPr>
        <p:blipFill>
          <a:blip r:embed="rId1"/>
          <a:stretch/>
        </p:blipFill>
        <p:spPr>
          <a:xfrm>
            <a:off x="3124080" y="2666880"/>
            <a:ext cx="2857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dressed to th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http://www.theharteofmarketing.com/wp/wp-content/uploads/2011/01/Nine.jpeg"/>
          <p:cNvPicPr/>
          <p:nvPr/>
        </p:nvPicPr>
        <p:blipFill>
          <a:blip r:embed="rId1"/>
          <a:stretch/>
        </p:blipFill>
        <p:spPr>
          <a:xfrm>
            <a:off x="3200400" y="2666880"/>
            <a:ext cx="233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ly bird catches the w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http://www.how-to-draw-funny-cartoons.com/image-files/cartoon-worm-7.gif"/>
          <p:cNvPicPr/>
          <p:nvPr/>
        </p:nvPicPr>
        <p:blipFill>
          <a:blip r:embed="rId1"/>
          <a:stretch/>
        </p:blipFill>
        <p:spPr>
          <a:xfrm>
            <a:off x="2971800" y="24382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ttp://www.stupidpicturesvideosandmusic.com/wp-content/uploads/2009/12/baby-on-toilet.jpg"/>
          <p:cNvPicPr/>
          <p:nvPr/>
        </p:nvPicPr>
        <p:blipFill>
          <a:blip r:embed="rId1"/>
          <a:stretch/>
        </p:blipFill>
        <p:spPr>
          <a:xfrm>
            <a:off x="3048120" y="2209680"/>
            <a:ext cx="28479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ce is killing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http://www.hotindienews.com/wp-content/uploads/2011/01/justin-bieber-300.jpg"/>
          <p:cNvPicPr/>
          <p:nvPr/>
        </p:nvPicPr>
        <p:blipFill>
          <a:blip r:embed="rId1"/>
          <a:stretch/>
        </p:blipFill>
        <p:spPr>
          <a:xfrm>
            <a:off x="2971800" y="23623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as white as a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http://us.123rf.com/400wm/400/400/Hallgerd/Hallgerd0612/Hallgerd061200308/665179-little-funny-ghost.jpg"/>
          <p:cNvPicPr/>
          <p:nvPr/>
        </p:nvPicPr>
        <p:blipFill>
          <a:blip r:embed="rId1"/>
          <a:stretch/>
        </p:blipFill>
        <p:spPr>
          <a:xfrm>
            <a:off x="2590920" y="28954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a skeleton in her clo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http://americaexplained.files.wordpress.com/2011/01/skeleton_in_closet_74214583.jpg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“like” or “as” doesn’t make a si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ari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 a Sim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izz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moon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 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ovcart.com/images/inventory/18065.11163.zoom.jpg"/>
          <p:cNvPicPr/>
          <p:nvPr/>
        </p:nvPicPr>
        <p:blipFill>
          <a:blip r:embed="rId1"/>
          <a:stretch/>
        </p:blipFill>
        <p:spPr>
          <a:xfrm>
            <a:off x="6705720" y="3809880"/>
            <a:ext cx="204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 are compa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worl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heart is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3.bp.blogspot.com/_vC_NYnaKRRs/TFJFAvHUgSI/AAAAAAAABIc/Vw5vE_emJT8/s1600/Heart+of+Stone.jpg"/>
          <p:cNvPicPr/>
          <p:nvPr/>
        </p:nvPicPr>
        <p:blipFill>
          <a:blip r:embed="rId1"/>
          <a:stretch/>
        </p:blipFill>
        <p:spPr>
          <a:xfrm>
            <a:off x="5257800" y="3733920"/>
            <a:ext cx="3309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human traits to objects 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light d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on the lake sh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are 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3.bp.blogspot.com/_Pk4-znZMoB0/SOKDPE72LlI/AAAAAAAAAmY/0KyeYj4P47M/s400/personification.jpg"/>
          <p:cNvPicPr/>
          <p:nvPr/>
        </p:nvPicPr>
        <p:blipFill>
          <a:blip r:embed="rId1"/>
          <a:stretch/>
        </p:blipFill>
        <p:spPr>
          <a:xfrm>
            <a:off x="5943600" y="25909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33"/>
                </a:solidFill>
                <a:uFillTx/>
                <a:latin typeface="Arial"/>
              </a:rPr>
              <a:t>Hyper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ing to show strong feeling or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love you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ouse is a million mile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kill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exurbanpedestrian.files.wordpress.com/2008/07/captainhyperbole2.jpg"/>
          <p:cNvPicPr/>
          <p:nvPr/>
        </p:nvPicPr>
        <p:blipFill>
          <a:blip r:embed="rId1"/>
          <a:stretch/>
        </p:blipFill>
        <p:spPr>
          <a:xfrm>
            <a:off x="6248520" y="2743200"/>
            <a:ext cx="2352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Under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with less strength than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pposite of hyperb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be there in one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n’t hurt a b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images.cheezburger.com/completestore/2009/8/8/128942267675850748.jpg"/>
          <p:cNvPicPr/>
          <p:nvPr/>
        </p:nvPicPr>
        <p:blipFill>
          <a:blip r:embed="rId1"/>
          <a:stretch/>
        </p:blipFill>
        <p:spPr>
          <a:xfrm>
            <a:off x="4952880" y="3886200"/>
            <a:ext cx="3581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d that “makes”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iw.org/~jess/wp-content/uploads/2007/07/splat1.gif"/>
          <p:cNvPicPr/>
          <p:nvPr/>
        </p:nvPicPr>
        <p:blipFill>
          <a:blip r:embed="rId1"/>
          <a:stretch/>
        </p:blipFill>
        <p:spPr>
          <a:xfrm>
            <a:off x="3352680" y="2286000"/>
            <a:ext cx="4686480" cy="3305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digitalhooligans.com/blog/uploaded_images/serie_kapow-728628.jpg"/>
          <p:cNvPicPr/>
          <p:nvPr/>
        </p:nvPicPr>
        <p:blipFill>
          <a:blip r:embed="rId2"/>
          <a:stretch/>
        </p:blipFill>
        <p:spPr>
          <a:xfrm>
            <a:off x="1981080" y="4876920"/>
            <a:ext cx="2266920" cy="16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ithfriendship.com/images/b/6643/Onomatopoeia-pic.jpg"/>
          <p:cNvPicPr/>
          <p:nvPr/>
        </p:nvPicPr>
        <p:blipFill>
          <a:blip r:embed="rId3"/>
          <a:stretch/>
        </p:blipFill>
        <p:spPr>
          <a:xfrm>
            <a:off x="6629400" y="1143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t1.gstatic.com/images?q=tbn:ANd9GcRmYvOjUVaaKnx9h011meHQq7fedjvYVb3tv07eXvyoFKswLm6HWQ&amp;t=1"/>
          <p:cNvPicPr/>
          <p:nvPr/>
        </p:nvPicPr>
        <p:blipFill>
          <a:blip r:embed="rId4"/>
          <a:stretch/>
        </p:blipFill>
        <p:spPr>
          <a:xfrm>
            <a:off x="6934320" y="5257800"/>
            <a:ext cx="1638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9:48Z</dcterms:created>
  <dc:creator>D</dc:creator>
  <dc:description/>
  <dc:language>en-US</dc:language>
  <cp:lastModifiedBy>Computer Tech</cp:lastModifiedBy>
  <dcterms:modified xsi:type="dcterms:W3CDTF">2013-03-13T16:27:53Z</dcterms:modified>
  <cp:revision>18</cp:revision>
  <dc:subject/>
  <dc:title>Figurative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